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CE54-46E7-40C5-89E2-FBD376219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EBE1-1FBF-4763-902C-A1EF924CD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B297-87D2-4289-8BA5-A0F4ED457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5AFE-0D33-412D-A98D-3FCB4B0F5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471A-18CC-484F-8E94-398D1BF37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DF6A-801D-4D8F-8C46-04A3FB845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5C4F-8C59-4E22-8343-F9B550406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4366-3213-4F68-A1B3-6F1FB68D4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E7A4-DADE-4D1D-A948-CD5E52D2B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A14D-26B1-4E56-AEDD-7C99CC3D7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95CA-0976-4BF6-91AC-B2772E72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2C9B-88F0-46A1-8F5F-A01872B8B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62121-F5C4-4432-B727-66ABB6D1A5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06400" y="2417400"/>
            <a:ext cx="8547120" cy="15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Luke’s Ice Cream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68520" y="4368960"/>
            <a:ext cx="7022880" cy="18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uke’s sweet ice cream will be your favorite dream as if it was a stream flowing with milk and honey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793960" y="762120"/>
            <a:ext cx="4762440" cy="22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